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15F-50CC-41AA-96E9-9AC96D69FBEB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EE9-927D-4EF5-9991-61023E0196CB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C1E-F0F5-40E0-93EB-93D8667294E8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A506-91F9-4572-B795-F285B00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62BE-287F-4ED6-84DD-1D002F17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17A7-87EB-4964-93A0-344D58F4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9CE1-C112-4676-8635-99904F02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FBAF-3822-41DC-8F81-6196238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3D6-43F7-436A-8FBA-89D6FA0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A28-FCCD-44F5-BE85-953BAB9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0A1-D47D-4672-82F9-A0C20BC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D52-238B-4737-BF1F-3864ED1D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B1D-E741-4C0D-85C6-8362FED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E1D-117E-4DAC-B97C-995369D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605C-8C8D-4E02-8C10-538ABC3E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AC4-E8AD-47B0-B3EA-C708D31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583-0CF1-4A6D-863D-7FE7BD5E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69C-6E68-4ED6-B8CA-F7CE9F0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1448-5FD7-47EF-848A-FBD10A70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8B04-AF6A-4DCE-B476-967AEB50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923E-25CB-4DCF-B302-37C977B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C99D-3A83-4470-87D1-2887D73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45E7-472C-42A7-9FC6-A5DBA766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D2D6-5C53-40FC-8533-0E36D7E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8674-154D-4E86-9EB9-F2CAD2E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BDB4-D1C7-4014-A3CF-B5FBDB2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10A0-344B-4FCE-AB29-2591242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2B43-4F28-4967-B18B-D8690BFDD2F9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DA4-09CD-4EBD-83EC-B7F115B94D6D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ncursul-procopiu.ro/files/download/Teoria_inteligentelor_multiple.pdf" TargetMode="External"/><Relationship Id="rId2" Type="http://schemas.openxmlformats.org/officeDocument/2006/relationships/hyperlink" Target="http://clublearn2b.wordpress.com/2009/12/20/teoria-inteligentelor-multiple-h-gardne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7002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Teoriei Inteligenţelor Multiple În Predarea Diferenţiat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714320"/>
            <a:ext cx="889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7d"/>
                </a:solidFill>
                <a:latin typeface="Arial"/>
              </a:rPr>
              <a:t>Teoria inteligenţei multiple </a:t>
            </a:r>
            <a:r>
              <a:rPr b="0" lang="ro-RO" sz="2800" spc="-1" strike="noStrike">
                <a:solidFill>
                  <a:srgbClr val="00007d"/>
                </a:solidFill>
                <a:latin typeface="Arial"/>
              </a:rPr>
              <a:t>dezvoltată în anul 1983 de Dr. Howard Gardner, profesor la Universitatea Harvard;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oamenii posedă cel puţi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pt inteligenţe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, fiecare corelată cu o zonă specifică de pe cre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El define</a:t>
            </a:r>
            <a:r>
              <a:rPr b="0" lang="ro-RO" sz="26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te „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o inteligenţă“ 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 fiin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Calea prin care un individ poate să îşi rezolve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blemele de viaţă real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Abilitatea de a crea sau de a oferi un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produs</a:t>
            </a:r>
            <a:r>
              <a:rPr b="1" lang="ro-RO" sz="26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servici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Potenţialul de a găsi sau de a crea soluţii care să </a:t>
            </a:r>
            <a:r>
              <a:rPr b="1" lang="pt-BR" sz="2600" spc="-1" strike="noStrike">
                <a:solidFill>
                  <a:srgbClr val="00007d"/>
                </a:solidFill>
                <a:latin typeface="Arial"/>
              </a:rPr>
              <a:t>faciliteze achiziţia</a:t>
            </a:r>
            <a:r>
              <a:rPr b="0" lang="pt-BR" sz="2600" spc="-1" strike="noStrike">
                <a:solidFill>
                  <a:srgbClr val="00007d"/>
                </a:solidFill>
                <a:latin typeface="Arial"/>
              </a:rPr>
              <a:t> de cunoaştere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eoria Inteligenţelor Multiple (TIM) recomandă folosirea unui meniu instrucţional cât de diversificat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Brainstorming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relegere inter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olosirea de organizatori grafici-povesti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monstraţii ştiinţifice-jocuri de gândire logic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ezbaterea-joc de ro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jocuri de cuvinte-confecţionare de colaj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xcursii tematice în teren-scrierea unui eseu pe suport muzic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mima-studiu de caz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8312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văţarea 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în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perech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diagrama inteligente multiple.jpg"/>
          <p:cNvPicPr/>
          <p:nvPr/>
        </p:nvPicPr>
        <p:blipFill>
          <a:blip r:embed="rId1"/>
          <a:stretch/>
        </p:blipFill>
        <p:spPr>
          <a:xfrm>
            <a:off x="1357200" y="642960"/>
            <a:ext cx="6357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struirea diferenţiat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28840"/>
            <a:ext cx="823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7d"/>
                </a:solidFill>
                <a:latin typeface="Arial"/>
              </a:rPr>
              <a:t>u are model sau reţet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ţine de un anumit mod de gândire al educatorului şi de o atitudine a lui în realizarea activităţilor cu copiii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laţia dintre profesor şi elev este marcată de capacitatea profesorului de a folosi acele strategii didactice prin care se poate trezi curiozitatea, interesul elevilor pentru cunoaştere prin recunoa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terea valorii fiecărui individ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ezultatele reale pot s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par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doar da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angajarea fiec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rui elev în procesul de învăţare are semnifcaţie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personal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550"/>
              </a:spcBef>
              <a:buClr>
                <a:srgbClr val="0860a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sta este motorul mişcării către clasa diferenţiată şi acest mod de abordare al instruirii dă</a:t>
            </a:r>
            <a:r>
              <a:rPr b="0" i="1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semnificaţie </a:t>
            </a:r>
            <a:r>
              <a:rPr b="1" i="1" lang="pt-BR" sz="2200" spc="-1" strike="noStrike">
                <a:solidFill>
                  <a:srgbClr val="00007d"/>
                </a:solidFill>
                <a:latin typeface="Arial"/>
              </a:rPr>
              <a:t>Teoriei Inteligenţelor Multiple</a:t>
            </a: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 precum şi altor teorii moderne ale inteligenţei care au impact în educaţ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ăcurari, O. (coord.), 2003, Strategii didactice inovative, Ed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gma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Păcurari, O. 2004, Instruirea diferen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iat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din persepctiva noilor teorii ale inteligen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ţ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ei; implicaţii pentru formarea cadrelor didactice, tezå de doctorat, Universitatea din Bucure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ti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arivan, L.1996. Inteligenţele multiple, o teorie pentru practica didactică, Învăţământul primar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*** Instruire diferenţiată, Aplicaţii ale teoriei inteligenţelor multiple, Ghid pentru formatori şi cadre didactice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2001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 MEC, Seria calitate în formare, Bucureş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ncursul-procopiu.ro/files/download/Teoria_inteligentelor_multiple.pdf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5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ublearn2b.wordpress.com/2009/12/20/teoria-inteligentelor-multiple-h-gardner/</a:t>
            </a:r>
            <a:r>
              <a:rPr b="1" lang="ro-RO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357120"/>
            <a:ext cx="82375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1. Inteligenţa verbal-lingvistică sau inteligenţa cuvint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1214280"/>
            <a:ext cx="67500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Verdana"/>
              </a:rPr>
              <a:t>1. </a:t>
            </a:r>
            <a:r>
              <a:rPr b="1" i="1" lang="en-US" sz="2200" spc="-1" strike="noStrike">
                <a:solidFill>
                  <a:srgbClr val="00007d"/>
                </a:solidFill>
                <a:latin typeface="Verdana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gândeşte î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uvinte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o bună memorie pentru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nume, locuri, dat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preferă să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citească, să scrie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şi să spună poveşti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înţeleg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ordinea şi sensul cuvintelor</a:t>
            </a:r>
            <a:r>
              <a:rPr b="1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explică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u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ş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or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are un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umor lingvistic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remarcabil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150000"/>
              </a:lnSpc>
              <a:buClr>
                <a:srgbClr val="0000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convinge uşor, este </a:t>
            </a:r>
            <a:r>
              <a:rPr b="1" lang="pt-BR" sz="2200" spc="-1" strike="noStrike">
                <a:solidFill>
                  <a:srgbClr val="00007d"/>
                </a:solidFill>
                <a:latin typeface="Verdana"/>
              </a:rPr>
              <a:t>persuasiv</a:t>
            </a:r>
            <a:r>
              <a:rPr b="0" lang="pt-BR" sz="2200" spc="-1" strike="noStrike">
                <a:solidFill>
                  <a:srgbClr val="00007d"/>
                </a:solidFill>
                <a:latin typeface="Verdana"/>
              </a:rPr>
              <a:t> în vorbire şi scriere</a:t>
            </a:r>
            <a:r>
              <a:rPr b="0" lang="ro-RO" sz="2200" spc="-1" strike="noStrike">
                <a:solidFill>
                  <a:srgbClr val="00007d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verbal lingvistica"/>
          <p:cNvPicPr/>
          <p:nvPr/>
        </p:nvPicPr>
        <p:blipFill>
          <a:blip r:embed="rId1"/>
          <a:stretch/>
        </p:blipFill>
        <p:spPr>
          <a:xfrm>
            <a:off x="6786720" y="1500120"/>
            <a:ext cx="2036520" cy="18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logico-matematică sau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umerelor şi a raţi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49291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plăcerea de 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zolva problem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de a lucra cu cifr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aţion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nductiv şi deductiv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un bun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discernământ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în ceea ce priveşte relaţiile şi conexiunil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alize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alcule complex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15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gândi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ştiinţific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ogico matematica"/>
          <p:cNvPicPr/>
          <p:nvPr/>
        </p:nvPicPr>
        <p:blipFill>
          <a:blip r:embed="rId1"/>
          <a:stretch/>
        </p:blipFill>
        <p:spPr>
          <a:xfrm>
            <a:off x="5153040" y="2274840"/>
            <a:ext cx="348444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3. Inteligenţa vizual-spa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ală sau inteligenţa imaginilor, desenului şi a pictu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00" y="1856880"/>
            <a:ext cx="4786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375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aginaţie activă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formează imagini mental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izualizează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 orienteaz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în spaţiu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relaţii şi obiec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paţial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ercepţii corect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din diferite unghiur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5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prezint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uşor grafic prin pictură, desen, sculptură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izual spatiala"/>
          <p:cNvPicPr/>
          <p:nvPr/>
        </p:nvPicPr>
        <p:blipFill>
          <a:blip r:embed="rId1"/>
          <a:stretch/>
        </p:blipFill>
        <p:spPr>
          <a:xfrm>
            <a:off x="5381640" y="2136600"/>
            <a:ext cx="34480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4. Inteligenţa corporal-kinestezică sau inteligenţa întregului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560" y="1914120"/>
            <a:ext cx="43290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438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oate controla în mod volunta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mişcări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şi poa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mişcări ale corpulu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face uşor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egătura dintre corp şi mi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884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bilităţi mimetice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rish_dancing"/>
          <p:cNvPicPr/>
          <p:nvPr/>
        </p:nvPicPr>
        <p:blipFill>
          <a:blip r:embed="rId1"/>
          <a:stretch/>
        </p:blipFill>
        <p:spPr>
          <a:xfrm>
            <a:off x="4908600" y="2295360"/>
            <a:ext cx="373536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muzical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ritmică sau inteligenţa tonului, ritmului şi a timbrulu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45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tructura muzicii şi a ritmului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re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chem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sau „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dr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“ pentru auzirea muzic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este sensibil la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sunete şi tipare vibraţionale</a:t>
            </a:r>
            <a:r>
              <a:rPr b="1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recunoaşte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reează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 şi reproduce sunete, ritmuri,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muzică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, tonuri şi vibraţii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00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200" spc="-1" strike="noStrike">
                <a:solidFill>
                  <a:srgbClr val="00007d"/>
                </a:solidFill>
                <a:latin typeface="Arial"/>
              </a:rPr>
              <a:t>calităţile caracteristice ale tonurilor şi ritmurilor</a:t>
            </a:r>
            <a:r>
              <a:rPr b="0" lang="ro-RO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usical"/>
          <p:cNvPicPr/>
          <p:nvPr/>
        </p:nvPicPr>
        <p:blipFill>
          <a:blip r:embed="rId1"/>
          <a:stretch/>
        </p:blipFill>
        <p:spPr>
          <a:xfrm>
            <a:off x="4857840" y="1979640"/>
            <a:ext cx="404820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6. Inteligenţa interpersonală sau inteligenţa interacţiunilor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comunică eficient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verbal şi non-verbal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es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sensibil la sentimentel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, temperamentul şi motivaţia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elor din jur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optează pentru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lucrul în cooperar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le place să lucrez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în grup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99320">
              <a:lnSpc>
                <a:spcPct val="90000"/>
              </a:lnSpc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dă dovadă de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înţelegerea perspectivelor celorlalţ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244280000[1]"/>
          <p:cNvPicPr/>
          <p:nvPr/>
        </p:nvPicPr>
        <p:blipFill>
          <a:blip r:embed="rId1"/>
          <a:stretch/>
        </p:blipFill>
        <p:spPr>
          <a:xfrm>
            <a:off x="5268960" y="2065320"/>
            <a:ext cx="3639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7. Inteligenţa intrapersonală sau inteligenţa autocunoaşte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46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capacitat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centr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tendinţă de a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reflecta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supra realităţii înconjurătoar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şi a naturii uman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îşi dezvoltă uşor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abilităţile metacognitive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conştientizează propriul comportament cogniti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sunt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con</a:t>
            </a:r>
            <a:r>
              <a:rPr b="1" lang="ro-RO" sz="2000" spc="-1" strike="noStrike">
                <a:solidFill>
                  <a:srgbClr val="00007d"/>
                </a:solidFill>
                <a:latin typeface="Arial"/>
              </a:rPr>
              <a:t>ş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tienţi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de propriile sentimente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simţul transpersonal</a:t>
            </a: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 al sinelui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7d"/>
                </a:solidFill>
                <a:latin typeface="Arial"/>
              </a:rPr>
              <a:t>are abilităţi de gândire de 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rdin superior</a:t>
            </a:r>
            <a:r>
              <a:rPr b="0" lang="ro-RO" sz="20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utocunoastere"/>
          <p:cNvPicPr/>
          <p:nvPr/>
        </p:nvPicPr>
        <p:blipFill>
          <a:blip r:embed="rId1"/>
          <a:stretch/>
        </p:blipFill>
        <p:spPr>
          <a:xfrm>
            <a:off x="4543560" y="2279520"/>
            <a:ext cx="442584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8.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Inteligenţa naturalistă sau inteligenţa tiparelor, regularităţilor şi a comportamentelor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614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5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Cel/cea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re dezvoltat simţul d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comuniune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cu natura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recunoaşte şi clasifică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uşor membri ai diferitelor spec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preciază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impactul naturi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asupra sinelui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şi a sinelui asupra naturii</a:t>
            </a:r>
            <a:r>
              <a:rPr b="0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spcBef>
                <a:spcPts val="601"/>
              </a:spcBef>
              <a:buClr>
                <a:srgbClr val="0860a8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cunoaşte </a:t>
            </a:r>
            <a:r>
              <a:rPr b="1" lang="pt-BR" sz="2400" spc="-1" strike="noStrike">
                <a:solidFill>
                  <a:srgbClr val="00007d"/>
                </a:solidFill>
                <a:latin typeface="Arial"/>
              </a:rPr>
              <a:t>tipare şi comportamente</a:t>
            </a:r>
            <a:r>
              <a:rPr b="1" lang="ro-RO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naturalist 2"/>
          <p:cNvPicPr/>
          <p:nvPr/>
        </p:nvPicPr>
        <p:blipFill>
          <a:blip r:embed="rId1"/>
          <a:stretch/>
        </p:blipFill>
        <p:spPr>
          <a:xfrm>
            <a:off x="5500800" y="1933560"/>
            <a:ext cx="2714400" cy="37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7:54:41Z</dcterms:created>
  <dc:creator>Adi</dc:creator>
  <dc:description/>
  <dc:language>en-US</dc:language>
  <cp:lastModifiedBy>ARDELEAN NORIN</cp:lastModifiedBy>
  <dcterms:modified xsi:type="dcterms:W3CDTF">2010-12-27T03:48:03Z</dcterms:modified>
  <cp:revision>15</cp:revision>
  <dc:subject/>
  <dc:title>APLICAREA TEORIEI INTELIGENŢELOR MULTIPLE ÎN PREDAREA DIFERENŢIATĂ</dc:title>
</cp:coreProperties>
</file>